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332-FF05-494C-A0BA-F692DE0E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583-4AFE-48E5-AC79-C61D5A17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B1A-A6AE-47AF-A19A-F42A5531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9D9-8D02-4285-8A14-CC422F21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C9E-A831-4DAE-817A-652DD6E1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CF4-5D97-4CB4-865E-37F38868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6D3-7C5A-48EE-AC36-A8908C42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A2E-E0F7-4469-9693-974BE76C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5B9-D8B8-4E60-ADD0-315E5577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C26-F199-4EF5-91CB-344CBB95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7FA-F1BA-407A-9148-4717ACD3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991-7A81-446D-AC0F-057D39F7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7FE5-E160-4814-8270-A4CDECEDE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SPESIFIKASI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AT DETEKSI RISIKO IBU HAM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SIFIKASI ALAT RAPID TEST (HB SAHLI) PELAYANAN ANTENATAL YANG DIBUTUHK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at Gluko-Protein Ur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parameter meliputi Ph, glucose, dan prote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ali pemeriksaa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Kehami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ntuk carik cel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ip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olongan Dara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Reagen Anti A, B, AB, dan Rh 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 golongan Darah sebanyak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Hb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ode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Sahl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ge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erupa HCl 0,1N sebanyak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utoclick devi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Stainless Stee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arum lancet (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4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biji) (disesuaikan dengan sasaran ibu hamil di desa dalam 1 tahun dimana masing-masing ibu hamil diperiksa 2 kali selama kehamilan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.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uku Petunjuk Teknis Penggunaan Alat Rapid Tes Pelayanan Antenatal bagi Bid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2:20:18Z</dcterms:created>
  <dc:creator>User</dc:creator>
  <dc:description/>
  <dc:language>en-US</dc:language>
  <cp:lastModifiedBy>LENOVO</cp:lastModifiedBy>
  <dcterms:modified xsi:type="dcterms:W3CDTF">2015-02-16T03:20:01Z</dcterms:modified>
  <cp:revision>28</cp:revision>
  <dc:subject/>
  <dc:title>DAFTAR KEBUTUHAN RAPID TES PELAYANAN ANTENATAL TAHUN 2015 (VERSI 65 M)</dc:title>
</cp:coreProperties>
</file>